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8DC8-15D3-40DF-B7AF-9A994C5B52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F0A8-CDAE-4070-B7F3-DFC58544C2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771-62B0-46D7-92C4-DFD19E45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597-2B40-4A44-9438-B808C70C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2D6-F32E-45C0-ABAE-92E63AD4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3F1-276E-4C65-9389-9214D7E8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8BD5-3FF5-489F-AFAD-4BA1F9A4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B8E-26B8-4920-B97A-44B1B82C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E6AF-7919-45B4-AF68-1BC8BD33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39BE-C738-4475-953F-DFA8CA78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C2A3-3DDE-4AA5-863B-957AEA27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8F8C-6A58-42A1-A3E4-C179C054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1C40-18F9-4728-80D3-20A3FC78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01A-0877-4DC9-8A78-D8EA6B2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D2B8-3A6E-43B5-80B4-50D1515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C531-C226-4BFE-B403-862A7F5C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99D6-C331-4022-9C48-DFEAD703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CFB8-2CCA-4BB7-BB54-D33B0923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56BD-513A-41A9-BA46-9EF9C917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27D1-86B9-4F30-A79D-1486FF63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DCE1C-37A3-4A54-81AC-D3CE9BA3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422A-CA9C-404B-9740-56E294B7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74B6-81F1-4892-AB3C-C5955435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BA6F-6E39-4A98-AE84-031CE43A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5FC-8C4C-4178-BEDE-08560614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5A5A-2292-4460-8C78-FDB0BAB8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4CAF-5B4F-4B90-90D6-81BD7CFC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6890-65D1-4AC5-87A6-44730A0A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F04D-5467-40C3-823F-15258E31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C8D4-DE6E-4715-AE1A-7DB9BAD3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D084-DBC3-49F0-8451-409B3753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4AF5-1635-4371-A20C-7096FFB9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0009-43F2-430C-908A-11C31AA4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914C-FA73-4CEE-AE90-5D270A67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39041-70C0-43F5-A109-502E44A0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3C4-609B-41B1-9A6A-62DAA1D9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3EFC-9FC7-4D1C-A2B8-95B23F36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A949-8DDB-4378-9129-92808322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19DC-6CE5-44EF-A0B7-63270EF3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F766-840F-42B6-8160-E540C3A0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F159-54F0-46FF-99F3-A5B9E82B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A125-3C8B-434A-95B8-9564B239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A978-2F40-4117-9C4D-E5240CF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898B1-F353-4719-A8A3-D95BE29D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E390-2797-471D-961B-66EFCBEE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25EC-66C9-4E5D-9EBC-730DEA47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A1B-7C8D-4F3D-B866-1B0A3DB9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A933-5FB5-4BE5-B1BC-1980E885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5C3C-028C-45F4-9AE5-68711793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AA6B7-C9DD-40DD-8EBD-447E3A81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BF29A-88F2-412E-893D-A1F828B7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5D634-B2BC-44D6-8C4A-E657C7E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1B9E-3516-4EAE-9469-2AE99CE0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A124D-1E5C-4CC6-9852-60732A1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0190C-06AF-496F-B163-B7B67C7D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44D9A-3093-4D2C-9D53-8CDD56EE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C82A3-E43C-4DCF-9B01-4FD70DA0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06C-07A0-4D91-AF00-3242FE3F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13403-EEF7-41F7-A3A1-6714BE50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40A-E633-4D54-BD64-3A21C070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FB2-5A37-476C-A2AB-2ADCA50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1ED-21FD-4BB6-A182-7B83A53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BD24-63D7-4870-9028-E2C6EF3511D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E4C9-33D4-48B7-ACEF-1A58BF5837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D3FA-AFB8-4430-A1F2-3D682CEBFCA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8D24-1A7B-4DAA-96C6-C35EB88008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F4CE-4270-4449-B836-687D5EBD281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C:\Users\79995\Desktop\изонить\2547667f45b75ffbd017fdba52a124e9.jpg"/>
          <p:cNvPicPr/>
          <p:nvPr/>
        </p:nvPicPr>
        <p:blipFill>
          <a:blip r:embed="rId2"/>
          <a:stretch/>
        </p:blipFill>
        <p:spPr>
          <a:xfrm>
            <a:off x="250920" y="2852640"/>
            <a:ext cx="55148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ы работ «Аквариу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Users\79995\Desktop\изонить\61c582c91fb1a80d45f6a6bcc41ece5b.jpg.jpg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Аквариум»3-4ч\948b751e6e52f3c074666649826f7db3.png"/>
          <p:cNvPicPr/>
          <p:nvPr/>
        </p:nvPicPr>
        <p:blipFill>
          <a:blip r:embed="rId1"/>
          <a:stretch/>
        </p:blipFill>
        <p:spPr>
          <a:xfrm>
            <a:off x="1403280" y="1077840"/>
            <a:ext cx="69138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07T10:13:07Z</dcterms:modified>
  <cp:revision>32</cp:revision>
  <dc:subject/>
  <dc:title>ТВОРЧЕСКАЯ ДЕЯТЕЛЬНОСТЬ: ЗНАКОМСТВО С ТЕХНИКОЙ ИЗОНИТЬ</dc:title>
</cp:coreProperties>
</file>